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0.gif" ContentType="image/gi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A99-EC0E-4DDE-BAD2-6580898B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82E-A57D-4D61-BA8A-16700BA4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F8A-87C3-4663-83A7-EE91EF80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0F9-3D08-40A0-AA13-2223B83D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5FC-FDCC-46F0-808F-7FA5893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1BA-9ADA-4E4B-8F57-B35499B6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B26-4A7C-4565-90F3-9C87D03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69E-ED37-4813-869A-5DAC19DD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764-31D1-43C5-81E6-612D22E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583-2AE7-41EB-A8EE-75DDC39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15B-1B45-4571-B548-E8C9858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37F-3CC2-4DDB-B03C-6CFF562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EC1-FE92-4E78-B34C-00C6276DEB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wo_fingers_isolated"/>
          <p:cNvPicPr/>
          <p:nvPr/>
        </p:nvPicPr>
        <p:blipFill>
          <a:blip r:embed="rId1"/>
          <a:stretch/>
        </p:blipFill>
        <p:spPr>
          <a:xfrm>
            <a:off x="2362320" y="1989000"/>
            <a:ext cx="134280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-finger"/>
          <p:cNvPicPr/>
          <p:nvPr/>
        </p:nvPicPr>
        <p:blipFill>
          <a:blip r:embed="rId2"/>
          <a:stretch/>
        </p:blipFill>
        <p:spPr>
          <a:xfrm>
            <a:off x="777960" y="2276640"/>
            <a:ext cx="117324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three-fingers"/>
          <p:cNvPicPr/>
          <p:nvPr/>
        </p:nvPicPr>
        <p:blipFill>
          <a:blip r:embed="rId3"/>
          <a:stretch/>
        </p:blipFill>
        <p:spPr>
          <a:xfrm>
            <a:off x="3730680" y="184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istockphoto_1345472-four-fingers"/>
          <p:cNvPicPr/>
          <p:nvPr/>
        </p:nvPicPr>
        <p:blipFill>
          <a:blip r:embed="rId4"/>
          <a:stretch/>
        </p:blipFill>
        <p:spPr>
          <a:xfrm>
            <a:off x="5003640" y="1989000"/>
            <a:ext cx="1390680" cy="208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six-fingers"/>
          <p:cNvPicPr/>
          <p:nvPr/>
        </p:nvPicPr>
        <p:blipFill>
          <a:blip r:embed="rId5"/>
          <a:stretch/>
        </p:blipFill>
        <p:spPr>
          <a:xfrm>
            <a:off x="6372360" y="2276640"/>
            <a:ext cx="1908000" cy="177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hat pattern do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763640" y="522936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-Number of fingers shown increases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9920" y="1579680"/>
            <a:ext cx="8974080" cy="527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100" spc="-1" strike="noStrike">
                <a:solidFill>
                  <a:srgbClr val="ffffff"/>
                </a:solidFill>
                <a:latin typeface="Arial"/>
              </a:rPr>
              <a:t>Forming Ions (IONIZATION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9000" y="3690720"/>
            <a:ext cx="860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The first ionization energy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energy required to remove the least attracted electron from a gaseous atom of that element. This least attracted electron is in the outer shell of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econd ionization energ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amount of energy required to remove a second e- from a gaseous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100" spc="-1" strike="noStrike">
                <a:solidFill>
                  <a:srgbClr val="ffffff"/>
                </a:solidFill>
                <a:latin typeface="Arial"/>
              </a:rPr>
              <a:t>2. Ionization Energy (IE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24000" y="1628640"/>
            <a:ext cx="882000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Ionization energy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amount of energy required to remov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n electron from a gaseous ato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onization energy can be written as foll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a (g) + energy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Na+ + e- (the electron is now separated from 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4547"/>
          <a:stretch/>
        </p:blipFill>
        <p:spPr>
          <a:xfrm>
            <a:off x="0" y="2062080"/>
            <a:ext cx="6972480" cy="4795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340000" y="1844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happens to ionization energy (IE) from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left to right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within a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E increases across a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59280" y="3068640"/>
            <a:ext cx="608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happens to ionization energy (IE)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down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a group?  </a:t>
            </a:r>
            <a:r>
              <a:rPr b="0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                                  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E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588000" y="4508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3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First ionization energies for </a:t>
            </a:r>
            <a:br>
              <a:rPr sz="3000"/>
            </a:b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main group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32000" y="1728720"/>
            <a:ext cx="6010200" cy="488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85520"/>
            <a:ext cx="81471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you 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cros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eriod, ionization energy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electr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ing put in the same shell while #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prot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 nuclei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atom size decreases from left to right, outermost electrons experienc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strong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tractive forces from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rder to remove them thus require more energy to remove these valence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across a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trend_electroneg"/>
          <p:cNvPicPr/>
          <p:nvPr/>
        </p:nvPicPr>
        <p:blipFill>
          <a:blip r:embed="rId1"/>
          <a:stretch/>
        </p:blipFill>
        <p:spPr>
          <a:xfrm>
            <a:off x="3887640" y="4508640"/>
            <a:ext cx="5256360" cy="2844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4535640" y="4941720"/>
            <a:ext cx="3313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br>
              <a:rPr sz="4000"/>
            </a:b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down a group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s you move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down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a group, ionization energy 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tom size </a:t>
            </a:r>
            <a:r>
              <a:rPr b="1" lang="en-CA" sz="26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utermost electron become more distant from the nuclei </a:t>
            </a:r>
            <a:r>
              <a:rPr b="0" lang="en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less nuclear force experie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quires less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energ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to remove these e- </a:t>
            </a:r>
            <a:r>
              <a:rPr b="0" lang="en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IE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The lower the value, the more likely it is to lose an electron and become a positive 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trend_electroneg"/>
          <p:cNvPicPr/>
          <p:nvPr/>
        </p:nvPicPr>
        <p:blipFill>
          <a:blip r:embed="rId1"/>
          <a:stretch/>
        </p:blipFill>
        <p:spPr>
          <a:xfrm>
            <a:off x="3887640" y="4292640"/>
            <a:ext cx="5256360" cy="2844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470480" y="4437000"/>
            <a:ext cx="36036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68360" y="4508640"/>
            <a:ext cx="33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g) + 131kJ</a:t>
            </a:r>
            <a:r>
              <a:rPr b="0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a(g) + 496kJ </a:t>
            </a:r>
            <a:r>
              <a:rPr b="0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Na+ + e- (the electron is now separated from 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47292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trend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successive e- are removed.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first e- removed, an atom becomes a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osi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dicates 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# 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reater than 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#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ater nuclear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rienced by outer electrons making i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more energy required) to remove them from the 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6984720" cy="2422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1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Arial"/>
              </a:rPr>
              <a:t>Ionization Energy Summary: Opposite of Atomic Radiu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shodor.org/chemviz/ionization/students/ietable.gif"/>
          <p:cNvPicPr/>
          <p:nvPr/>
        </p:nvPicPr>
        <p:blipFill>
          <a:blip r:embed="rId1"/>
          <a:stretch/>
        </p:blipFill>
        <p:spPr>
          <a:xfrm>
            <a:off x="611280" y="1700280"/>
            <a:ext cx="7775640" cy="428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2560680"/>
                <a:gridCol w="1863720"/>
                <a:gridCol w="1789200"/>
                <a:gridCol w="201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Ionization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 Ionization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Mg, Si,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Mg, Ca, 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F, Cl, 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. Ba, Cu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. Si, P,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2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nergy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release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an electron i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dde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a neutral, gaseous atom to form a anion (i.e. negatively charged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00680" y="171468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: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(g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+ e-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(g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+ energy (the electron has been added to the atom and energy was rele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3.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eadiag"/>
          <p:cNvPicPr/>
          <p:nvPr/>
        </p:nvPicPr>
        <p:blipFill>
          <a:blip r:embed="rId1"/>
          <a:stretch/>
        </p:blipFill>
        <p:spPr>
          <a:xfrm>
            <a:off x="3995640" y="3933720"/>
            <a:ext cx="4788000" cy="2368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Arial"/>
              </a:rPr>
              <a:t>Elements in the Periodic Table are not arranged random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lements are arranged according to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result, there are several periodic trends that arise and can allow us to predict how elements will behave in certain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5508720" y="1268280"/>
            <a:ext cx="2303280" cy="5589720"/>
            <a:chOff x="5508720" y="1268280"/>
            <a:chExt cx="2303280" cy="5589720"/>
          </a:xfrm>
        </p:grpSpPr>
        <p:sp>
          <p:nvSpPr>
            <p:cNvPr id="54" name="Oval 4"/>
            <p:cNvSpPr/>
            <p:nvPr/>
          </p:nvSpPr>
          <p:spPr>
            <a:xfrm>
              <a:off x="6443280" y="1268280"/>
              <a:ext cx="36000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"/>
            <p:cNvSpPr/>
            <p:nvPr/>
          </p:nvSpPr>
          <p:spPr>
            <a:xfrm>
              <a:off x="6156000" y="1773360"/>
              <a:ext cx="936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"/>
            <p:cNvSpPr/>
            <p:nvPr/>
          </p:nvSpPr>
          <p:spPr>
            <a:xfrm>
              <a:off x="5868720" y="2781360"/>
              <a:ext cx="1584000" cy="158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5508720" y="4483080"/>
              <a:ext cx="2303280" cy="237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9"/>
          <p:cNvSpPr/>
          <p:nvPr/>
        </p:nvSpPr>
        <p:spPr>
          <a:xfrm>
            <a:off x="8244000" y="126828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3682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end obse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A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increase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rom left to right and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decreas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dow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rger value of EA means it’s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easi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to add e- to that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4278240" y="1700280"/>
            <a:ext cx="4865760" cy="4532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ff"/>
                </a:solidFill>
                <a:uFillTx/>
                <a:latin typeface="Arial"/>
              </a:rPr>
              <a:t>Electron Affinity: The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 very negative valu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 electron affinity indicates that a lot of energy is released when an electron is added to a gaseous atom, and that such a process is very likely to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www.shodor.org/chemviz/ionization/students/eatable.gif"/>
          <p:cNvPicPr/>
          <p:nvPr/>
        </p:nvPicPr>
        <p:blipFill>
          <a:blip r:embed="rId1"/>
          <a:stretch/>
        </p:blipFill>
        <p:spPr>
          <a:xfrm>
            <a:off x="4605480" y="1700280"/>
            <a:ext cx="453852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489800" cy="6800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28760" y="1928880"/>
          <a:ext cx="8229600" cy="3825720"/>
        </p:xfrm>
        <a:graphic>
          <a:graphicData uri="http://schemas.openxmlformats.org/drawingml/2006/table">
            <a:tbl>
              <a:tblPr/>
              <a:tblGrid>
                <a:gridCol w="2539800"/>
                <a:gridCol w="1874880"/>
                <a:gridCol w="1795320"/>
                <a:gridCol w="201960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Electron Affi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 Electron Affi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Li, C,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C, O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K, Si,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. S, F,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61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bility of an atom to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ttrac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hared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wards itself 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4. ELECTRONEGATIVITY (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716360" y="5300640"/>
            <a:ext cx="3457800" cy="1080360"/>
          </a:xfrm>
          <a:prstGeom prst="rect">
            <a:avLst/>
          </a:prstGeom>
          <a:solidFill>
            <a:srgbClr val="bbe0e3">
              <a:alpha val="72000"/>
            </a:srgbClr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ost electronegative atom is Fluorin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hose value was assigned as 4.0 by Linus Pa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lectronegativity-Table"/>
          <p:cNvPicPr/>
          <p:nvPr/>
        </p:nvPicPr>
        <p:blipFill>
          <a:blip r:embed="rId1"/>
          <a:stretch/>
        </p:blipFill>
        <p:spPr>
          <a:xfrm>
            <a:off x="0" y="2637000"/>
            <a:ext cx="4537080" cy="381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4572000" y="26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little black numbers indicate the electronegativity value for the element in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high number means a high electronegativity and therefore a stronger attraction for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19040" y="1733400"/>
            <a:ext cx="7164360" cy="523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lectronegativity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from left to right.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om left to right, # protons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Shared electrons will b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ttrac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mor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stro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decrease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own a group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wn a group, # protons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ut also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mor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ner electrons are added resulting in a shielding effect. Thus, shared electrons are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les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tracted to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98800"/>
                <a:gridCol w="2087280"/>
                <a:gridCol w="1944720"/>
                <a:gridCol w="209880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ctro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ctro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F, Cl,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Mg, Si, 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K, Cl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1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5"/>
          <p:cNvSpPr/>
          <p:nvPr/>
        </p:nvSpPr>
        <p:spPr>
          <a:xfrm>
            <a:off x="2627280" y="3141720"/>
            <a:ext cx="432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6"/>
          <p:cNvSpPr/>
          <p:nvPr/>
        </p:nvSpPr>
        <p:spPr>
          <a:xfrm>
            <a:off x="4716360" y="3141720"/>
            <a:ext cx="432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7"/>
          <p:cNvSpPr/>
          <p:nvPr/>
        </p:nvSpPr>
        <p:spPr>
          <a:xfrm>
            <a:off x="6659640" y="3141720"/>
            <a:ext cx="431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-17136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SUMMARY OF PERIODIC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13756731"/>
          <p:cNvPicPr/>
          <p:nvPr/>
        </p:nvPicPr>
        <p:blipFill>
          <a:blip r:embed="rId1"/>
          <a:stretch/>
        </p:blipFill>
        <p:spPr>
          <a:xfrm>
            <a:off x="1403280" y="1916280"/>
            <a:ext cx="6048360" cy="409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8436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CA" sz="3200" spc="-1" strike="noStrike">
                <a:solidFill>
                  <a:srgbClr val="0066cc"/>
                </a:solidFill>
                <a:latin typeface="Arial"/>
              </a:rPr>
              <a:t>positiv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harge that an electron experiences from the nucleus, equal to the nuclear charge but reduced by any shielding or screening from other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ffective Nuclear Charge (Zef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grandinetti.org/Teaching/Chem121/Lectures/MultiElectronAtoms/assets/multielectron.gif"/>
          <p:cNvPicPr/>
          <p:nvPr/>
        </p:nvPicPr>
        <p:blipFill>
          <a:blip r:embed="rId1"/>
          <a:stretch/>
        </p:blipFill>
        <p:spPr>
          <a:xfrm>
            <a:off x="3238560" y="3500280"/>
            <a:ext cx="590544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6130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don’t physically have a well defined boundary that we can conveniently present as a solid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her, this boundary is fuzzy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an’t really measure atom size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radius of an atom can be determined based on the distance between 2 atoms i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radii are measured in picometers (pm)  1pm = 10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"/>
              </a:rPr>
              <a:t>1. ATOMIC RAD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>
            <a:alphaModFix amt="10000"/>
          </a:blip>
          <a:srcRect l="14410" t="13900" r="31583" b="4787"/>
          <a:stretch/>
        </p:blipFill>
        <p:spPr>
          <a:xfrm>
            <a:off x="6012000" y="3573360"/>
            <a:ext cx="3132000" cy="2786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23840" y="1801800"/>
            <a:ext cx="784872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tomic Radiu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estimate of the size of an atom from its nucleus to its outer perime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32018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notice about the atomic radii as you 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cros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eri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"/>
              </a:rPr>
              <a:t>ATOMIC RAD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4508640"/>
            <a:ext cx="341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down</a:t>
            </a:r>
            <a:r>
              <a:rPr b="0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61360" y="3886200"/>
            <a:ext cx="237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ic radii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↓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25640" y="5029200"/>
            <a:ext cx="24541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ic radii </a:t>
            </a:r>
            <a:r>
              <a:rPr b="0" lang="en-CA" sz="3000" spc="-1" strike="noStrike">
                <a:solidFill>
                  <a:srgbClr val="ff9900"/>
                </a:solidFill>
                <a:latin typeface="Carbon Block"/>
              </a:rPr>
              <a:t>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TRADIID"/>
          <p:cNvPicPr/>
          <p:nvPr/>
        </p:nvPicPr>
        <p:blipFill>
          <a:blip r:embed="rId1"/>
          <a:stretch/>
        </p:blipFill>
        <p:spPr>
          <a:xfrm>
            <a:off x="304812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62400" y="5286240"/>
            <a:ext cx="58672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89320" y="1989000"/>
            <a:ext cx="1008000" cy="432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5734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xplaining Trends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Atomic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06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left to righ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ithin the same shell (or energy level) the atomic radiu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decreas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prot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creases by 1 as we move from one element to the next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ffective nuclear charg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# of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ner core 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main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Vale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or outermost) electrons are strongly attracted to the nucleus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decreas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size of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27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s you move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down a group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tomic radiu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electrons; thus more shells ar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ermost electrons feel a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repulsion by inner 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ffective nuclear charg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ermost electrons further away from nucleus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tom siz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tion in attractive force due to the inner electron is called the </a:t>
            </a:r>
            <a:r>
              <a:rPr b="1" i="1" lang="en-CA" sz="2800" spc="-1" strike="noStrike" u="sng">
                <a:solidFill>
                  <a:srgbClr val="ff9900"/>
                </a:solidFill>
                <a:uFillTx/>
                <a:latin typeface="Arial"/>
              </a:rPr>
              <a:t>screening effect.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xplaining Tre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in Atomic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Summary of </a:t>
            </a: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Atomic Radius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www.shodor.org/chemviz/ionization/students/atomtable.gif"/>
          <p:cNvPicPr/>
          <p:nvPr/>
        </p:nvPicPr>
        <p:blipFill>
          <a:blip r:embed="rId1"/>
          <a:stretch/>
        </p:blipFill>
        <p:spPr>
          <a:xfrm>
            <a:off x="303120" y="1139760"/>
            <a:ext cx="8640720" cy="4505400"/>
          </a:xfrm>
          <a:prstGeom prst="rect">
            <a:avLst/>
          </a:prstGeom>
          <a:ln w="0">
            <a:noFill/>
          </a:ln>
        </p:spPr>
      </p:pic>
      <p:sp>
        <p:nvSpPr>
          <p:cNvPr id="89" name="Oval 5"/>
          <p:cNvSpPr/>
          <p:nvPr/>
        </p:nvSpPr>
        <p:spPr>
          <a:xfrm>
            <a:off x="8532720" y="213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295200" y="2058840"/>
            <a:ext cx="68436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0" y="5445000"/>
            <a:ext cx="133200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857160" y="2286000"/>
          <a:ext cx="7704360" cy="3598920"/>
        </p:xfrm>
        <a:graphic>
          <a:graphicData uri="http://schemas.openxmlformats.org/drawingml/2006/table">
            <a:tbl>
              <a:tblPr/>
              <a:tblGrid>
                <a:gridCol w="2102040"/>
                <a:gridCol w="1477800"/>
                <a:gridCol w="1940040"/>
                <a:gridCol w="21844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iggest Rad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 Rad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Li, C,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Li, Na,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Ge, P,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. C, N, 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39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Atomic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05:21:50Z</dcterms:created>
  <dc:creator>Natalya</dc:creator>
  <dc:description/>
  <dc:language>en-US</dc:language>
  <cp:lastModifiedBy>Natalya</cp:lastModifiedBy>
  <dcterms:modified xsi:type="dcterms:W3CDTF">2011-09-08T05:59:15Z</dcterms:modified>
  <cp:revision>54</cp:revision>
  <dc:subject/>
  <dc:title>Periodic Trends</dc:title>
</cp:coreProperties>
</file>